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70B-AA60-46C4-A6B6-5E6CC795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FF6-979A-4919-B483-E218CD5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9C1-A3D9-41FE-860D-7E52F220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8CC-F66D-4ACC-8BCB-9A9DFAD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F13E-ABC3-4C71-9DB7-8066CFAF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C1CB-AC60-43F0-94FB-6FDFF21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51F-3A62-4249-8A1A-80A60F23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3653-D805-4B4D-8C88-4EDD835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815B-556E-408F-B625-C876844C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4CAA-BAFA-41CB-9E4C-0047D87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FDF5-A81F-493D-8FFC-B7E6110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6E6-4690-4D8D-A479-B057982A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BF50-6A74-4BB8-A9D9-87A7CD3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06B-708E-456A-AA74-F4217E7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AB0D-C364-4217-AB17-36E1E23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4C01-6F9E-4D81-AAE4-2EE02572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84AE-5EAE-4C62-B5B6-EC1751AA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A64-426A-45B5-AA6B-B7196B3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DE9-E877-42F0-8E95-7BD1AFA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E8D-A97D-4F36-9B05-1232B639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769-BAF3-4588-B7E6-7C81DEA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367-42E2-428E-A088-6A5CD81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235-7525-4D1A-BBA8-A32244F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E9D-3FE7-4F5C-86C1-997D1DD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6D8C-D213-4302-A3EB-234ACAD4E0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EF3-DAF8-4B82-9090-49398A5A24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fzibran@ucalgary.ca" TargetMode="External"/><Relationship Id="rId3" Type="http://schemas.openxmlformats.org/officeDocument/2006/relationships/hyperlink" Target="http://www.ucalgary.ca/~mfzibran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:00 PM – 4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day, 11 AM-12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Time Box Assignmen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Excel Spreadshe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Access Data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2 Nov: Problem Solv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1 due on Oct 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2 due on Nov 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0:45:42Z</dcterms:created>
  <dc:creator>Fahim</dc:creator>
  <dc:description/>
  <dc:language>en-US</dc:language>
  <cp:lastModifiedBy>Fahim</cp:lastModifiedBy>
  <dcterms:modified xsi:type="dcterms:W3CDTF">2008-09-15T21:04:12Z</dcterms:modified>
  <cp:revision>13</cp:revision>
  <dc:subject/>
  <dc:title>CPSC 203 Tutorial Section: T32</dc:title>
</cp:coreProperties>
</file>